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3B26-81B6-48CA-BED3-167C9D9DA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13B1-E91F-40B4-84F9-81135DF4A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5874-C73D-4BED-B1D9-4DAB8549E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0C93-8FDA-4BAB-B6BD-386D6FF16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28C0-2554-4AB4-974B-2F73CAD12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89D4-28A1-4DA2-A793-96EDACB3A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D151-FB2A-4B84-ABC5-719916CAB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DF3D-ABB4-423F-9892-AB5423D84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6216-F355-4692-B6AF-A50B64496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EF9F-431A-4C2E-A229-D7584FBE0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DEAC-79B0-4FE4-B54E-60175F2FB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7532-872A-4257-ACE1-745F79A3B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D1D92-C51D-44BE-8C4C-A979246B099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2129040" y="4005360"/>
            <a:ext cx="49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Le nom 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moteur de recherche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populaire est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1314000" y="481644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Goo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1387440" y="539280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Coca C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5438160" y="479736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Sug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5438160" y="544500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Gluk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16572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7"/>
          <p:cNvSpPr/>
          <p:nvPr/>
        </p:nvSpPr>
        <p:spPr>
          <a:xfrm>
            <a:off x="5418000" y="4816440"/>
            <a:ext cx="12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Grèce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785880" y="392904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uelle équipe est devenue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la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championne d'Europe de football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n 2004?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17560" y="616572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2286000" y="392904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Combien fait 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050 : 50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1313640" y="481644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50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5419080" y="48164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3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38160" y="54450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2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1334520" y="54450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2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692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7"/>
          <p:cNvSpPr/>
          <p:nvPr/>
        </p:nvSpPr>
        <p:spPr>
          <a:xfrm>
            <a:off x="5419080" y="48164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3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2286000" y="392904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Combien fait 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050 : 50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692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2340000" y="393372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l objet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port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nce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5419080" y="481644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 miro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5095080" y="5445000"/>
            <a:ext cx="242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 f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er à cheval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1334520" y="54450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 s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406160" y="479736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 d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iaman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692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"/>
          <p:cNvSpPr/>
          <p:nvPr/>
        </p:nvSpPr>
        <p:spPr>
          <a:xfrm>
            <a:off x="2340000" y="393372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l objet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port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nce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5438160" y="5445000"/>
            <a:ext cx="17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 f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er à cheval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2216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"/>
          <p:cNvSpPr/>
          <p:nvPr/>
        </p:nvSpPr>
        <p:spPr>
          <a:xfrm>
            <a:off x="2484360" y="393372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Combien de litre y 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il dans u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m3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5419080" y="481644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000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5437800" y="544500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0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1406160" y="544500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0000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1405800" y="47973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00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2484360" y="393372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Combien de litre y 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il dans u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m3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5419080" y="481644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000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1042920" y="400536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Combien y a-t-il de doigts à la main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de S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mp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ons 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5418360" y="481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543744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140544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1405440" y="47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5"/>
          <p:cNvSpPr/>
          <p:nvPr/>
        </p:nvSpPr>
        <p:spPr>
          <a:xfrm>
            <a:off x="1042920" y="400536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Combien y a-t-il de doigts à la main de S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mp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ons 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5418360" y="481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22160" y="616572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1908000" y="4005360"/>
            <a:ext cx="53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Quel pays n'a pas de frontière avec la Suisse?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5420160" y="481644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’Allemagn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5437800" y="5445000"/>
            <a:ext cx="12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1406520" y="54450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’Espag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1405800" y="479736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L’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It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16572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2129040" y="4005360"/>
            <a:ext cx="49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Le nom 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moteur de recherche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populaire est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1314000" y="481644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Goo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1384200" y="5392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1908000" y="4005360"/>
            <a:ext cx="53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Quel pays n'a pas de frontière avec la Suisse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1406520" y="54450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’Espag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5564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1979640" y="400536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À  quel pays appartient la Corse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5419080" y="481644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L’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It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5438520" y="544500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 Portug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1406520" y="54450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’Espag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1405800" y="479736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Franc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5"/>
          <p:cNvSpPr/>
          <p:nvPr/>
        </p:nvSpPr>
        <p:spPr>
          <a:xfrm>
            <a:off x="1979640" y="400536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À  quel pays appartient la Corse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1403280" y="5445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1405440" y="4797360"/>
            <a:ext cx="12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165360"/>
            <a:ext cx="7772400" cy="45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5"/>
          <p:cNvSpPr/>
          <p:nvPr/>
        </p:nvSpPr>
        <p:spPr>
          <a:xfrm>
            <a:off x="1547640" y="400536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Quel pays n'utilise pas l'eur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5418720" y="4816440"/>
            <a:ext cx="12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5438880" y="544500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’Angleter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1406880" y="54450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 Finl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1407240" y="4797360"/>
            <a:ext cx="14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’Allemag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16572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1547640" y="400536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Quel pays n'utilise pas l'eur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5438880" y="5445000"/>
            <a:ext cx="140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’Angleter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258920" y="3933720"/>
            <a:ext cx="69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En quelle année a eu lieu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a première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Coupe du monde de sciage de glac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5222520" y="47973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9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5222520" y="5445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6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1261800" y="5445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8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1261800" y="47973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5"/>
          <p:cNvSpPr/>
          <p:nvPr/>
        </p:nvSpPr>
        <p:spPr>
          <a:xfrm>
            <a:off x="1258920" y="3933720"/>
            <a:ext cx="69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En quelle année a eu lieu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a première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Coupe du monde de sciage de glac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1258920" y="5445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1261800" y="47973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016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6"/>
          <p:cNvSpPr/>
          <p:nvPr/>
        </p:nvSpPr>
        <p:spPr>
          <a:xfrm>
            <a:off x="5221440" y="47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5221800" y="5445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1261080" y="5445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1260720" y="47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1835280" y="3933720"/>
            <a:ext cx="51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ombien d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arêtes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 un cub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16572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5"/>
          <p:cNvSpPr/>
          <p:nvPr/>
        </p:nvSpPr>
        <p:spPr>
          <a:xfrm>
            <a:off x="1835280" y="3933720"/>
            <a:ext cx="51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ombien d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arêtes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 un cub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5219640" y="5445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1261080" y="5445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2692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2286000" y="4000680"/>
            <a:ext cx="51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Quelle est la largeur d'un but de football 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5225400" y="4797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7,32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5225760" y="544500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0,08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1264680" y="544500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6,53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1264680" y="4797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2,55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2576520" y="3929040"/>
            <a:ext cx="388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Quelle est la capitale de la Turquie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1313640" y="481644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Istanb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1386720" y="539280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Ank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5419080" y="481644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Antal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5437800" y="544500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Bur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31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6"/>
          <p:cNvSpPr/>
          <p:nvPr/>
        </p:nvSpPr>
        <p:spPr>
          <a:xfrm>
            <a:off x="5225400" y="4797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7,32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5219640" y="5445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2286000" y="4000680"/>
            <a:ext cx="51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Quelle est la largeur d'un but de football 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7"/>
          <p:cNvSpPr/>
          <p:nvPr/>
        </p:nvSpPr>
        <p:spPr>
          <a:xfrm>
            <a:off x="1386720" y="539280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Ank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2576520" y="3929040"/>
            <a:ext cx="388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Quelle est la capitale de la Turquie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1547640" y="3933720"/>
            <a:ext cx="61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Combien y a t-il de livres dans la série Harry Potter 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1314000" y="481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5418360" y="481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543852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133380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16572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5"/>
          <p:cNvSpPr/>
          <p:nvPr/>
        </p:nvSpPr>
        <p:spPr>
          <a:xfrm>
            <a:off x="1547640" y="3933720"/>
            <a:ext cx="61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Combien y a t-il de livres dans la série Harry Potter 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543852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708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2214720" y="392904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Qui chantait la chanson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„My heart will go on“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1313640" y="481644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Emin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5420520" y="481644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Celine D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5438520" y="544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Alanis Moriss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1335240" y="544500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Ashlee Simp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7"/>
          <p:cNvSpPr/>
          <p:nvPr/>
        </p:nvSpPr>
        <p:spPr>
          <a:xfrm>
            <a:off x="5420520" y="481644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Celine D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2214720" y="392904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Qui chantait la chanson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„My heart will go on“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785880" y="392904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uelle équipe est devenue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la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championne d'Europe de football 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n 2004?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1314360" y="4816440"/>
            <a:ext cx="156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’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Allemagn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5418000" y="4816440"/>
            <a:ext cx="12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Grèce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5437800" y="5445000"/>
            <a:ext cx="12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1335240" y="544500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’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Angleter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2T18:54:53Z</dcterms:created>
  <dc:creator>kahraman</dc:creator>
  <dc:description/>
  <dc:language>en-US</dc:language>
  <cp:lastModifiedBy>Grada</cp:lastModifiedBy>
  <dcterms:modified xsi:type="dcterms:W3CDTF">2016-01-25T12:42:20Z</dcterms:modified>
  <cp:revision>72</cp:revision>
  <dc:subject/>
  <dc:title>Folie 1</dc:title>
</cp:coreProperties>
</file>